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3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Формирование и оперативное хранение дел в делопроизводств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44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507600"/>
            <a:ext cx="8229600" cy="61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ле завершения делопроизводственного года выдача сотрудникам отдельных документов из дела не допускается. При необходимости во временное пользование может быть выдано дело целиком. В этом случае составляется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карта-заместител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в которой указывае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мер выданного де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та выда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у выдано де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какой ср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пись в получении и приеме после возвращения докумен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ла выдаются во временное пользование сотрудникам организации на срок не более одного месяц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ислите общие требования при формировании дел учрежд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то осуществляет контроль за правильным формированием де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 каких операций состоит работа по формированию де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лько листов может быть помещено в дел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овите специфику систематизации различных групп докуме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знецов И. Н. Делопроизводство: учебно-справочное пособие / И. Н. Кузнецов. - 3-е изд., перераб. и доп. - М. : Дашков и К*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2007. - 2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работы с документами. Учебник для вузов. Под ред. В.А. Кудряева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8.    Спивак В.А. Делопроизводство. – СПб.: Питер: 2008. – 208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9.    Стенюков М.В. Делопроизводство: Конспект лекций. – М.: ПРИОР: 2008. – 12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0.  Стенюков М.В. Документы. Делопроизводство. Практическое по­собие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1.   Хрестоматия по документоведению. В 3-х частях.  Ч. 3 Сост. Н.А. Царева. Владивосток: изд-во ВГУЭС, 200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2.   ГОСТ Р51141-98 Делопроизводство и архивное дело: Термины и определения.– М.: Издательство стандартов, 199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080E-A783-4326-8976-CDD7C8502C96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22F0-98A8-474C-8C26-46D63C5B7C9E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Дело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588760"/>
            <a:ext cx="8229600" cy="35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вокупность документов или документ, относящихся к одному вопросу или участку деятельности, помещенных в отдельную обложку. (ГОСТ Р51141-9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Стрелка вниз 3"/>
          <p:cNvSpPr/>
          <p:nvPr/>
        </p:nvSpPr>
        <p:spPr>
          <a:xfrm>
            <a:off x="3951360" y="1274760"/>
            <a:ext cx="1241280" cy="1022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Формирование дела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62548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руппирование исполненных документов в дело в соответствии с номенклатурой дел и систематизация документов внутри дел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Стрелка вниз 3"/>
          <p:cNvSpPr/>
          <p:nvPr/>
        </p:nvSpPr>
        <p:spPr>
          <a:xfrm>
            <a:off x="3768840" y="1274760"/>
            <a:ext cx="1350720" cy="138744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Требования при формировании дел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019160"/>
            <a:ext cx="8229600" cy="55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дело помещаются документы, которые по своему содержанию соответствуют заголовку дел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окументы постоянного и временного хранения группируются в отдельные дела; Например, следует хранить в различных делах оригиналы и копии документов, годовые и квартальные планы работы и так далее, поскольку эти документы имеют различные сроки хран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ложения к документам, независимо от дат их подписания или утверждения, присоединяют к документам, к которым они относятся; могут составлять отдельный том данного дел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дело включается по одному экземпляру каждого документ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прещается включать копии и дубликаты. Исключение составляют черновые и дублетные материалы, копии, которые имеют резолюции, визы, пометки, являющиеся дополнением к основному документ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дело группируются документы одного календарного года.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Исключение составляют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удебных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личных дел (формируются в течение всего периода работы данного лица в организации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окументов ор­ганов представительной власти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угих выборных органов, которые группируются за период их созыва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окументов учебных заведений, формирующихся в дела за учебный год и др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7.    в дела должны помещаться только исполненные документы, неисполненные подшивать запрещаетс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8.    дела, по которым распределяются документы, должны точно соответствовать номенклатуре дел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Работа по формированию дел состоит из следующих операций: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9716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спределение исполненных документов по делам в соответствии с номенклатурой дел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сположение документов внутри дел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формление обложки дел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последовательности расположения документов в деле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7128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хронологическая последовательность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начиная от более ранних по датам документов и кончая более поздними датами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вопросный признак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предполагает размещение документов в деле в логической последовательности решения вопросов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нумерационный  признак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(группируются однородные документы, имеющие порядковую нумерацию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номинальный признак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в дела группируются документы одного вида (разновидности): протоколы, приказы, акты и т. д.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корреспондентский признак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для группировки переписки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алфавитная последовательност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На обложку каждого заведенного дела выносятся следующие сведения: 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вание организаци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вание структурного подразделения организации, в котором оформилось дело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декс дел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голово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личество листов в дел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ок хранения дела (внизу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Заголовок дела следует формулировать на основе элементов, располагаемых в следующей последовательности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звание документа (приказы, протоколы и т.д.)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именование рода заводимого дела (переписка, документы, дело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автор документа (название организации, подразделения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орреспондент (название организации, которой адресуются и от которой получают документы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опрос или краткое содержание документов дела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звание местности (территории), с которой связано содержание документов дел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даты (период), к которым относятся документы дел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казание на копийность дел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2:11:34Z</dcterms:modified>
  <cp:revision>134</cp:revision>
  <dc:subject/>
  <dc:title>Lecture Template </dc:title>
</cp:coreProperties>
</file>